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33F0-183E-49C7-AF82-C3367EC0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8DD-DAA5-4AEE-AD33-E974FBC8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20BB-93D5-4ED4-921F-680EA7157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149-00F0-4348-BBF7-F685A4F6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80C9-21E3-44AE-AF34-1C5D5443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E359-AEB4-4E2C-8FCD-B010015E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C703-82CE-4B3F-AF65-192D4315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720A-1EAA-4B24-982D-D9061137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87B9-8E02-4AFB-844B-C90CE233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6852-AB22-4541-B734-2FF9A9DE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77F0-0104-41C5-BF41-4D3D181C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B200-54F2-40E1-A654-15924E3E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045D-A5ED-4BA2-9D1D-47C480C24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isi.ensma.fr/index.html" TargetMode="External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14600" y="1676520"/>
            <a:ext cx="4191120" cy="2361960"/>
            <a:chOff x="2514600" y="1676520"/>
            <a:chExt cx="4191120" cy="2361960"/>
          </a:xfrm>
        </p:grpSpPr>
        <p:sp>
          <p:nvSpPr>
            <p:cNvPr id="42" name=""/>
            <p:cNvSpPr/>
            <p:nvPr/>
          </p:nvSpPr>
          <p:spPr>
            <a:xfrm>
              <a:off x="2514600" y="1676520"/>
              <a:ext cx="419112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52680" y="1854360"/>
              <a:ext cx="25146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Verdana"/>
                </a:rPr>
                <a:t>PLIB Edi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Verdana"/>
                </a:rPr>
                <a:t>version 1.0.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based on the ISO13584-25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library implicit schem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11600" y="2514600"/>
              <a:ext cx="174888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000000"/>
                  </a:solidFill>
                  <a:latin typeface="Verdana"/>
                </a:rPr>
                <a:t>Copyright©2001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900" spc="-1" strike="noStrike">
                  <a:solidFill>
                    <a:srgbClr val="000000"/>
                  </a:solidFill>
                  <a:latin typeface="Verdana"/>
                </a:rPr>
                <a:t>ENSMA/LIS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</a:t>
              </a:r>
              <a:r>
                <a:rPr b="0" lang="fr-FR" sz="1000" spc="-1" strike="noStrike">
                  <a:solidFill>
                    <a:srgbClr val="0000ff"/>
                  </a:solidFill>
                  <a:latin typeface="Trebuchet MS"/>
                </a:rPr>
                <a:t> </a:t>
              </a:r>
              <a:r>
                <a:rPr b="0" lang="fr-FR" sz="1000" spc="-1" strike="noStrike">
                  <a:solidFill>
                    <a:srgbClr val="0000ff"/>
                  </a:solidFill>
                  <a:latin typeface="Trebuchet MS"/>
                </a:rPr>
                <a:t>plib@ensma.f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3333cc"/>
                  </a:solidFill>
                  <a:latin typeface="Wingdings"/>
                  <a:ea typeface="Wingdings"/>
                </a:rPr>
                <a:t></a:t>
              </a:r>
              <a:r>
                <a:rPr b="0" lang="fr-FR" sz="1000" spc="-1" strike="noStrike">
                  <a:solidFill>
                    <a:srgbClr val="3333cc"/>
                  </a:solidFill>
                  <a:latin typeface="Palatino"/>
                </a:rPr>
                <a:t> </a:t>
              </a:r>
              <a:r>
                <a:rPr b="0" lang="fr-FR" sz="1000" spc="-1" strike="noStrike">
                  <a:solidFill>
                    <a:srgbClr val="0000ff"/>
                  </a:solidFill>
                  <a:latin typeface="Trebuchet MS"/>
                </a:rPr>
                <a:t>http://www.plib.ensma.f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000000"/>
                  </a:solidFill>
                  <a:latin typeface="Verdana"/>
                </a:rPr>
                <a:t>With Support o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2743200" y="1752480"/>
              <a:ext cx="609480" cy="5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5943600" y="1752480"/>
              <a:ext cx="53352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 flipH="1">
              <a:off x="2819520" y="3633840"/>
              <a:ext cx="1218960" cy="2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4"/>
            <a:stretch/>
          </p:blipFill>
          <p:spPr>
            <a:xfrm>
              <a:off x="5638680" y="3276720"/>
              <a:ext cx="68580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692360" y="1339920"/>
            <a:ext cx="4824360" cy="25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Logo LIS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8840" y="2066760"/>
            <a:ext cx="857520" cy="857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148360" y="2066760"/>
            <a:ext cx="1079280" cy="727200"/>
            <a:chOff x="5148360" y="2066760"/>
            <a:chExt cx="1079280" cy="727200"/>
          </a:xfrm>
        </p:grpSpPr>
        <p:graphicFrame>
          <p:nvGraphicFramePr>
            <p:cNvPr id="52" name=""/>
            <p:cNvGraphicFramePr/>
            <p:nvPr/>
          </p:nvGraphicFramePr>
          <p:xfrm>
            <a:off x="5435640" y="2066760"/>
            <a:ext cx="503280" cy="490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35640" y="2066760"/>
                      <a:ext cx="503280" cy="4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54" name="" descr=""/>
            <p:cNvPicPr/>
            <p:nvPr/>
          </p:nvPicPr>
          <p:blipFill>
            <a:blip r:embed="rId5"/>
            <a:stretch/>
          </p:blipFill>
          <p:spPr>
            <a:xfrm>
              <a:off x="5148360" y="2498760"/>
              <a:ext cx="1079280" cy="29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3444120" y="162252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LIB Edi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6840" y="1916280"/>
            <a:ext cx="14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ahoma"/>
              </a:rPr>
              <a:t>based on the ISO13584-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ahoma"/>
              </a:rPr>
              <a:t>library implicit sch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23080" y="2228760"/>
            <a:ext cx="188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ahoma"/>
              </a:rPr>
              <a:t>Copyright 20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ahoma"/>
              </a:rPr>
              <a:t>LISI/ENSMA – CRITT Infor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3852720" y="3027240"/>
            <a:ext cx="623880" cy="546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25760" y="2637000"/>
            <a:ext cx="14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ahoma"/>
              </a:rPr>
              <a:t>plib@ensma.f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cc"/>
                </a:solidFill>
                <a:latin typeface="Tahoma"/>
              </a:rPr>
              <a:t>http://www.plib.ensma.f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08:59:56Z</dcterms:created>
  <dc:creator>Hicky</dc:creator>
  <dc:description/>
  <dc:language>en-US</dc:language>
  <cp:lastModifiedBy>Eric Sardet</cp:lastModifiedBy>
  <dcterms:modified xsi:type="dcterms:W3CDTF">2009-01-08T11:22:51Z</dcterms:modified>
  <cp:revision>9</cp:revision>
  <dc:subject/>
  <dc:title>Aucun titre de diapositive</dc:title>
</cp:coreProperties>
</file>